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850-6136-42D4-8EEE-70EF9700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921-CCA6-4DA3-BDF8-CAF7D372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C9D-E481-45BD-976D-AAA057ED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060-927F-45F0-9876-B94D0878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D3DA-CF11-4C15-B6AD-4F03E93E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A27-E3E1-4CC6-8C86-00356DF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14E-10A8-4A15-9A64-5B27F57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B5B-E73B-47E4-81A1-D0BAB15C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4F9-B3BB-459F-A7D3-4EE3953C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C99-5EBD-4D9C-BC3A-5060744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6DA-FB80-4658-A684-C0AD6EC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347-A065-4FDC-8B45-6A5779E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917-9738-472B-B763-6CF0AA5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06F-19AE-43D1-95C8-7286788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8394-1E0E-4CC5-8A1E-7344C3C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68C1-BCC8-4037-ABDE-DBFEDD95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F21C-ABAA-4F96-8CB9-22B7B14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B33-B1F2-47E7-97B6-34837B1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911-D479-4EA3-940F-84594CB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435-F0FB-49A3-A20C-B44366DE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89C-F9EA-4F22-8A05-A96806C3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5D7-EAAA-4D8E-BD2B-A726A24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314-EA09-48B8-ADD7-CE7C0EA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D98-F511-4845-9088-64AAA740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877-3FA4-42D0-AE5B-DD81D4ED3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1C1-6E3B-490B-870F-887E2C9A1B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South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63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eveloping Open-Market Econo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jor exports: Petroleum, prec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tones, machinery, iron/ste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mports: Crude oil, fertil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tic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ederal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eligions: Hindu, Muslim, Christia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ikh, native/trib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anguages: Hindi, Bengali, Englis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tive/trib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.2 Billion (2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in the Worl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ical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le under Mughal Empire (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tish colonial rule from Mid-1800’s to 1947 (indepen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fluence of East India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fficial end of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inued through cultural tra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ystem of social stratification and social restriction that divided Indian society into hereditary groups called Jati’s. (4 groups; 1 exclusionary c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identified with Hindu society, not specific to the Hindu relig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,500 years of cultural tra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asts- outsiders below cas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et swee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oom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considered part of social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32:53Z</dcterms:created>
  <dc:creator>R. Barrios</dc:creator>
  <dc:description/>
  <dc:language>en-US</dc:language>
  <cp:lastModifiedBy>R. Barrios</cp:lastModifiedBy>
  <dcterms:modified xsi:type="dcterms:W3CDTF">2012-04-05T04:08:32Z</dcterms:modified>
  <cp:revision>4</cp:revision>
  <dc:subject/>
  <dc:title>South Asia</dc:title>
</cp:coreProperties>
</file>